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A4A7-FB42-421F-8F63-EA34676399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047A-5567-40FB-8398-3F02BA41D4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E26D-7812-49BA-92BA-EDD1A0F0120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C04-5B2E-4383-9779-CB6FE94F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988-D391-4889-BB95-BD714AAE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A04-203D-44CE-9BFF-08004EAA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7FF-4349-4B86-93CF-74E47AE4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D1D41-7169-45A3-A55F-2BA11170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2AD73-5DDD-4180-88C4-9D848B9F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8660A-2467-407C-87F2-D1BEDA3A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1B977-2B6F-4321-8CD0-FF4E8BFC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98588-BA7E-432F-98E0-67ED7D9A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72386-13C8-491D-ADD5-60F03BCE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D8D7D-8CA7-4B6D-BA39-D154F3F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058-254C-443A-88CB-B97B1246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DEB0E-F42D-41C7-BB34-816EDDD5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CFADA-0083-4239-B7CC-8EDE0959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92C4A-57BD-4353-A9A2-0AC2BA8B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BDBE9-7069-49B8-809C-3A41B2D4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EBFEA-F06B-4E46-AEC4-E0CA3518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5D08-BF1B-4996-B54E-1AA1FE3F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6046-64EF-4AC8-8B93-F8E6D167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54E9-E9E4-4CC1-B80B-A6ED7BBC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A344-94AA-4EBC-B1DD-D855C428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6B06-F9AC-45AE-BC36-E5D6533E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426-AAD1-4115-BD4F-BBFE07DF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F8B2-A54D-4623-9626-B62DD34C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805D-147A-4817-94AF-C3748045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C39F-FB1B-48BE-BDD5-73A37B33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2749-0C71-4F94-B880-8943ADB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BFF28-9A0D-4F7E-967D-DA64FEFF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FC9D-5001-4CF9-97ED-A25B1B44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C9BC-9710-4842-B420-FC733AC4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46F446-59B4-4C90-B247-045F9359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11D0EC-761A-4473-A838-18112938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3EAF5-7FAB-4BD8-A411-D356F682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92C-9097-4451-AAAE-AC45D2AC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2705BC-A361-4174-A516-8BE97BF3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073F2-7C7E-484E-BF7F-EAF172EE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DC5D70-44BE-4BA9-81E9-5418D4AE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EC0A7-B853-4A1F-B782-A04C0FF4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BC390A-959E-4067-9BAD-66BC6A25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B6C46-676F-4F7E-B638-5CDB2AAE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CE31F-E12F-4914-95C3-F54E82F6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B92AC-8C2C-47A4-9184-E9F1888B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29BD17-31DE-461C-BFA3-F8235212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827-DEED-48D9-8E3D-B292536F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FA0-5002-4391-BE0D-1D067A36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4AF-7DAE-45CC-85F8-C955C4A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ADD-5BD5-459E-8E00-BDB2B69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143-194F-4F62-B51E-6020A4CF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7112-515E-4E9A-A110-23894B3AE26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0E30-1912-44D1-A97D-6A544A6B7FD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51F9-D344-4884-ABBE-505FD3993F4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6565-3BFB-4708-9B2F-95DA1344434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9" name="Рисунок 5" descr=""/>
          <p:cNvPicPr/>
          <p:nvPr/>
        </p:nvPicPr>
        <p:blipFill>
          <a:blip r:embed="rId1"/>
          <a:stretch/>
        </p:blipFill>
        <p:spPr>
          <a:xfrm>
            <a:off x="0" y="6143760"/>
            <a:ext cx="4608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9" descr=""/>
          <p:cNvPicPr/>
          <p:nvPr/>
        </p:nvPicPr>
        <p:blipFill>
          <a:blip r:embed="rId3"/>
          <a:stretch/>
        </p:blipFill>
        <p:spPr>
          <a:xfrm>
            <a:off x="566640" y="639720"/>
            <a:ext cx="8869320" cy="260352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10" descr=""/>
          <p:cNvPicPr/>
          <p:nvPr/>
        </p:nvPicPr>
        <p:blipFill>
          <a:blip r:embed="rId4"/>
          <a:stretch/>
        </p:blipFill>
        <p:spPr>
          <a:xfrm>
            <a:off x="853920" y="3498840"/>
            <a:ext cx="7436160" cy="6033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2"/>
          <p:cNvSpPr/>
          <p:nvPr/>
        </p:nvSpPr>
        <p:spPr>
          <a:xfrm>
            <a:off x="2206800" y="4214880"/>
            <a:ext cx="4730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4"/>
          <p:cNvSpPr/>
          <p:nvPr/>
        </p:nvSpPr>
        <p:spPr>
          <a:xfrm flipH="1">
            <a:off x="4285440" y="4500720"/>
            <a:ext cx="428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613"/>
                </a:solidFill>
                <a:latin typeface="Constantia"/>
              </a:rPr>
              <a:t>Подготовила :                                            Спирина Наталья Александровна  учитель начальных классов                МОУ СОШ №3 г. Донецка               Рост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716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ru-RU" sz="2700" spc="-1" strike="noStrike">
                <a:solidFill>
                  <a:srgbClr val="222613"/>
                </a:solidFill>
                <a:latin typeface="Constantia"/>
              </a:rPr>
              <a:t>Выберите названия животных обитающих в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22613"/>
                </a:solidFill>
                <a:latin typeface="Constantia"/>
              </a:rPr>
              <a:t>нашем</a:t>
            </a:r>
            <a:r>
              <a:rPr b="1" lang="en-US" sz="2700" spc="-1" strike="noStrike">
                <a:solidFill>
                  <a:srgbClr val="222613"/>
                </a:solidFill>
                <a:latin typeface="Constantia"/>
              </a:rPr>
              <a:t> </a:t>
            </a:r>
            <a:r>
              <a:rPr b="1" lang="ru-RU" sz="2700" spc="-1" strike="noStrike">
                <a:solidFill>
                  <a:srgbClr val="222613"/>
                </a:solidFill>
                <a:latin typeface="Constantia"/>
              </a:rPr>
              <a:t>крае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лагородный олен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расный вол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аяц – руса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верный олен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урый медвед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шастый ёж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усли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Лисиц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уро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абан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3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3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3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3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3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3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3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3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3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3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13840" y="856800"/>
            <a:ext cx="8472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613"/>
                </a:solidFill>
                <a:latin typeface="Constantia"/>
              </a:rPr>
              <a:t>Отгадайте загадки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.Серый зверёк  через палку скок –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линные ноги, а хвост корото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Весь в колючках, ворчит как злюч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уть испугается –клубочком свиваетс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8242560" cy="8715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3" descr=""/>
          <p:cNvPicPr/>
          <p:nvPr/>
        </p:nvPicPr>
        <p:blipFill>
          <a:blip r:embed="rId2"/>
          <a:stretch/>
        </p:blipFill>
        <p:spPr>
          <a:xfrm>
            <a:off x="6000840" y="1714680"/>
            <a:ext cx="2857320" cy="20001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7" descr=""/>
          <p:cNvPicPr/>
          <p:nvPr/>
        </p:nvPicPr>
        <p:blipFill>
          <a:blip r:embed="rId3"/>
          <a:stretch/>
        </p:blipFill>
        <p:spPr>
          <a:xfrm>
            <a:off x="285840" y="3000240"/>
            <a:ext cx="192888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3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3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3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3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3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. Трав копытами касаясь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тундре бегает красавец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Ходит смело и легко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ога раскинув широк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5088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. Сероватый, зубастый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5088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 полю рыщет, ягнят ище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50880" indent="-514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5" descr=""/>
          <p:cNvPicPr/>
          <p:nvPr/>
        </p:nvPicPr>
        <p:blipFill>
          <a:blip r:embed="rId2"/>
          <a:stretch/>
        </p:blipFill>
        <p:spPr>
          <a:xfrm>
            <a:off x="5786280" y="1428840"/>
            <a:ext cx="2571840" cy="26431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"/>
          <p:cNvPicPr/>
          <p:nvPr/>
        </p:nvPicPr>
        <p:blipFill>
          <a:blip r:embed="rId3"/>
          <a:stretch/>
        </p:blipFill>
        <p:spPr>
          <a:xfrm rot="21268200">
            <a:off x="673200" y="3557160"/>
            <a:ext cx="3108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13840" y="9284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5. Летом ходит без дорог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зле сосен и берёз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 зимой он спит в берлог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 мороза прячет нос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4" descr=""/>
          <p:cNvPicPr/>
          <p:nvPr/>
        </p:nvPicPr>
        <p:blipFill>
          <a:blip r:embed="rId2"/>
          <a:stretch/>
        </p:blipFill>
        <p:spPr>
          <a:xfrm rot="292800">
            <a:off x="4657320" y="2595240"/>
            <a:ext cx="4054680" cy="286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3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3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3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3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613"/>
                </a:solidFill>
                <a:latin typeface="Constantia"/>
              </a:rPr>
              <a:t>Задание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х этого зверя носили как знак верховн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ласти цари, короли, князья. В былые времена 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нглии его разрешалось надевать лишь члена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ролевской  семьи. Живёт он на север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604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3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4"/>
          <p:cNvSpPr/>
          <p:nvPr/>
        </p:nvSpPr>
        <p:spPr>
          <a:xfrm>
            <a:off x="7000920" y="4357800"/>
            <a:ext cx="57132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7643880" y="4357800"/>
            <a:ext cx="57132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4143240" y="4357800"/>
            <a:ext cx="64296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7"/>
          <p:cNvSpPr/>
          <p:nvPr/>
        </p:nvSpPr>
        <p:spPr>
          <a:xfrm>
            <a:off x="3429000" y="4357800"/>
            <a:ext cx="64296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8"/>
          <p:cNvSpPr/>
          <p:nvPr/>
        </p:nvSpPr>
        <p:spPr>
          <a:xfrm>
            <a:off x="5572080" y="4357800"/>
            <a:ext cx="64296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6286680" y="4357800"/>
            <a:ext cx="64260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10"/>
          <p:cNvSpPr/>
          <p:nvPr/>
        </p:nvSpPr>
        <p:spPr>
          <a:xfrm>
            <a:off x="4857840" y="4357800"/>
            <a:ext cx="64296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11"/>
          <p:cNvSpPr/>
          <p:nvPr/>
        </p:nvSpPr>
        <p:spPr>
          <a:xfrm>
            <a:off x="8286840" y="4357800"/>
            <a:ext cx="57132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12"/>
          <p:cNvSpPr/>
          <p:nvPr/>
        </p:nvSpPr>
        <p:spPr>
          <a:xfrm>
            <a:off x="2786040" y="4357800"/>
            <a:ext cx="57168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3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3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3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3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3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71424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613"/>
                </a:solidFill>
                <a:latin typeface="Constantia"/>
              </a:rPr>
              <a:t>Задание:</a:t>
            </a:r>
            <a:r>
              <a:rPr b="0" lang="ru-RU" sz="2600" spc="-1" strike="noStrike">
                <a:solidFill>
                  <a:srgbClr val="222613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обычайно много легенд, мифов, сказо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ожено различными народами об этой птиц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неё превращался Зевс громовержец, этих птиц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прягал в свою колесницу древнегреческий бог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полло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>
            <a:off x="3286080" y="4572000"/>
            <a:ext cx="642960" cy="71424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1857240" y="4572000"/>
            <a:ext cx="642960" cy="71424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5"/>
          <p:cNvSpPr/>
          <p:nvPr/>
        </p:nvSpPr>
        <p:spPr>
          <a:xfrm>
            <a:off x="1214280" y="4572000"/>
            <a:ext cx="571680" cy="71424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500040" y="4572000"/>
            <a:ext cx="642960" cy="71424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7"/>
          <p:cNvSpPr/>
          <p:nvPr/>
        </p:nvSpPr>
        <p:spPr>
          <a:xfrm>
            <a:off x="2571840" y="4572000"/>
            <a:ext cx="642960" cy="71424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4000680" y="4572000"/>
            <a:ext cx="642600" cy="71424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Рисунок 9" descr=""/>
          <p:cNvPicPr/>
          <p:nvPr/>
        </p:nvPicPr>
        <p:blipFill>
          <a:blip r:embed="rId2"/>
          <a:stretch/>
        </p:blipFill>
        <p:spPr>
          <a:xfrm>
            <a:off x="4857840" y="4071960"/>
            <a:ext cx="400032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3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3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3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3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3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3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85840" y="1071360"/>
            <a:ext cx="8400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613"/>
                </a:solidFill>
                <a:latin typeface="Constantia"/>
              </a:rPr>
              <a:t>Задание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зоне лесотундры растёт дерево, относящееся 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емейству хвойных. Его древесина твёрда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яжёлая и очень долговечна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85428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3"/>
          <p:cNvSpPr/>
          <p:nvPr/>
        </p:nvSpPr>
        <p:spPr>
          <a:xfrm>
            <a:off x="1643040" y="5786280"/>
            <a:ext cx="642960" cy="8431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3071880" y="5786280"/>
            <a:ext cx="642960" cy="8431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6643800" y="5786280"/>
            <a:ext cx="642960" cy="8575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2357280" y="5786280"/>
            <a:ext cx="642960" cy="8431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1000080" y="5786280"/>
            <a:ext cx="571680" cy="8431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285840" y="5786280"/>
            <a:ext cx="642960" cy="8431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3786120" y="5786280"/>
            <a:ext cx="642960" cy="8431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5214960" y="5786280"/>
            <a:ext cx="642960" cy="8431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5929200" y="5786280"/>
            <a:ext cx="642960" cy="8431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4500720" y="5786280"/>
            <a:ext cx="642960" cy="8431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13"/>
          <p:cNvSpPr/>
          <p:nvPr/>
        </p:nvSpPr>
        <p:spPr>
          <a:xfrm>
            <a:off x="7358040" y="5786280"/>
            <a:ext cx="714240" cy="8575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14" descr=""/>
          <p:cNvPicPr/>
          <p:nvPr/>
        </p:nvPicPr>
        <p:blipFill>
          <a:blip r:embed="rId2"/>
          <a:stretch/>
        </p:blipFill>
        <p:spPr>
          <a:xfrm>
            <a:off x="5857920" y="2643120"/>
            <a:ext cx="2643120" cy="30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3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3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3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3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ttp://im0-tub.yandex.net/i?id=318981241-00-72                                                                   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http://im3-tub.yandex.net/i?id=2872508-67-72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http://im2-tub.yandex.net/i?id=33075051-49-72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http://im4-tub.yandex.net/i?id=84289385-51-7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http://im6-tub.yandex.net/i?id=90587271-32-7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ttp://im6-tub.yandex.net/i?id=210925590-05-7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http://im7-tub.yandex.net/i?id=317359329-25-7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ttp://im7-tub.yandex.net/i?id=18161257-35-7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://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0-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ub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andex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et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?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d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=146057163-46-7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://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-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ub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andex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et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?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d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=121195427-49-7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ttp://im6-tub.yandex.net/i?id=27857145-49-7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http://im8-tub.yandex.net/i?id=34331089-35-72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http://im4-tub.yandex.net/i?id=106508817-05-7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ttp://im0-tub.yandex.net/i?id=290022335-66-7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225360" y="281160"/>
            <a:ext cx="8437680" cy="1511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3286080" y="2214720"/>
            <a:ext cx="2571840" cy="2786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6143760" y="1714680"/>
            <a:ext cx="2428920" cy="2714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4"/>
          <a:stretch/>
        </p:blipFill>
        <p:spPr>
          <a:xfrm>
            <a:off x="357120" y="3643200"/>
            <a:ext cx="264312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22613"/>
                </a:solidFill>
                <a:latin typeface="Constantia"/>
              </a:rPr>
              <a:t>НАЗОВИТЕ ПРИРОДНУЮ ЗОНУ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о безлесная заболоченная равнина на севере нашей Родины. Климат здесь суровый. Зима  длится 8-9 месяцев. Снега много. Поэтому земля промерзает на большую глубин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907920" y="-648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"/>
          <p:cNvPicPr/>
          <p:nvPr/>
        </p:nvPicPr>
        <p:blipFill>
          <a:blip r:embed="rId2"/>
          <a:stretch/>
        </p:blipFill>
        <p:spPr>
          <a:xfrm>
            <a:off x="1071720" y="4071960"/>
            <a:ext cx="628632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00040" y="128556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а зона – бескрайние равнины, безлесные просторы. Зима здесь короткая, довольно холодная, особенно на востоке, лето продолжительное, жаркое. Дождей выпадает немного, в основном лет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3" descr=""/>
          <p:cNvPicPr/>
          <p:nvPr/>
        </p:nvPicPr>
        <p:blipFill>
          <a:blip r:embed="rId2"/>
          <a:stretch/>
        </p:blipFill>
        <p:spPr>
          <a:xfrm>
            <a:off x="1071720" y="3286080"/>
            <a:ext cx="678636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верхность этой зоны во многих местах покрыта песчаными барханами. Здесь редко бывают дожди. Лето продолжительное, жаркое, сухое. Зима короткая, но не холодная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3" descr=""/>
          <p:cNvPicPr/>
          <p:nvPr/>
        </p:nvPicPr>
        <p:blipFill>
          <a:blip r:embed="rId2"/>
          <a:stretch/>
        </p:blipFill>
        <p:spPr>
          <a:xfrm>
            <a:off x="1285920" y="3214800"/>
            <a:ext cx="6286320" cy="321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71680" y="15714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годы этого растения очень вкусны и полезны , но их ещё применяют как краситель. В старину ими красили лён и шерсть в красный и фиолетовый цвета. Его ягоды улучшают зрен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"/>
          <p:cNvPicPr/>
          <p:nvPr/>
        </p:nvPicPr>
        <p:blipFill>
          <a:blip r:embed="rId2"/>
          <a:stretch/>
        </p:blipFill>
        <p:spPr>
          <a:xfrm>
            <a:off x="5500800" y="4000680"/>
            <a:ext cx="3143160" cy="257148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5"/>
          <p:cNvSpPr/>
          <p:nvPr/>
        </p:nvSpPr>
        <p:spPr>
          <a:xfrm>
            <a:off x="571680" y="4786200"/>
            <a:ext cx="571320" cy="57168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8"/>
          <p:cNvSpPr/>
          <p:nvPr/>
        </p:nvSpPr>
        <p:spPr>
          <a:xfrm>
            <a:off x="1214280" y="4786200"/>
            <a:ext cx="571680" cy="57168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9"/>
          <p:cNvSpPr/>
          <p:nvPr/>
        </p:nvSpPr>
        <p:spPr>
          <a:xfrm flipH="1">
            <a:off x="1857240" y="4786200"/>
            <a:ext cx="571680" cy="57168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10"/>
          <p:cNvSpPr/>
          <p:nvPr/>
        </p:nvSpPr>
        <p:spPr>
          <a:xfrm>
            <a:off x="2500200" y="4786200"/>
            <a:ext cx="571680" cy="57168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3143160" y="4786200"/>
            <a:ext cx="571680" cy="57168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2"/>
          <p:cNvSpPr/>
          <p:nvPr/>
        </p:nvSpPr>
        <p:spPr>
          <a:xfrm flipH="1">
            <a:off x="3786120" y="4786200"/>
            <a:ext cx="571680" cy="57168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3"/>
          <p:cNvSpPr/>
          <p:nvPr/>
        </p:nvSpPr>
        <p:spPr>
          <a:xfrm>
            <a:off x="4429080" y="4786200"/>
            <a:ext cx="571680" cy="57168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613"/>
                </a:solidFill>
                <a:latin typeface="Constantia"/>
              </a:rPr>
              <a:t>Выберите названия птиц обитающих в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613"/>
                </a:solidFill>
                <a:latin typeface="Constantia"/>
              </a:rPr>
              <a:t>нашем крае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Белая куропатка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Серая куропатка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Дятел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Дрофа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Голубь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Розовая чайка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Филин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Марабу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Серпоклювый колибри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Степной орёл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2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3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3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3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3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30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30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2876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 Какие из перечисленных птиц занесены в    Красную книгу Ростовской облас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. Впишите в пустые клеточки буквы, чтобы получились названия птиц нашего кра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22613"/>
                </a:solidFill>
                <a:latin typeface="Constantia"/>
              </a:rPr>
              <a:t>О</a:t>
            </a:r>
            <a:r>
              <a:rPr b="0" lang="ru-RU" sz="2600" spc="-1" strike="noStrike">
                <a:solidFill>
                  <a:srgbClr val="222613"/>
                </a:solidFill>
                <a:latin typeface="Constantia"/>
              </a:rPr>
              <a:t>                </a:t>
            </a:r>
            <a:r>
              <a:rPr b="0" lang="ru-RU" sz="4800" spc="-1" strike="noStrike">
                <a:solidFill>
                  <a:srgbClr val="222613"/>
                </a:solidFill>
                <a:latin typeface="Constantia"/>
              </a:rPr>
              <a:t>Р Ь    Г О     У     Ь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22613"/>
                </a:solidFill>
                <a:latin typeface="Constantia"/>
              </a:rPr>
              <a:t>                  </a:t>
            </a:r>
            <a:r>
              <a:rPr b="0" lang="ru-RU" sz="4800" spc="-1" strike="noStrike">
                <a:solidFill>
                  <a:srgbClr val="222613"/>
                </a:solidFill>
                <a:latin typeface="Constantia"/>
              </a:rPr>
              <a:t>И Н     Ц А 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3"/>
          <p:cNvSpPr/>
          <p:nvPr/>
        </p:nvSpPr>
        <p:spPr>
          <a:xfrm>
            <a:off x="1071720" y="3929040"/>
            <a:ext cx="500040" cy="50004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714680" y="3929040"/>
            <a:ext cx="500040" cy="50004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4857840" y="3929040"/>
            <a:ext cx="500040" cy="50004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6000840" y="3929040"/>
            <a:ext cx="500040" cy="50004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2571840" y="4714920"/>
            <a:ext cx="571320" cy="5713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4429080" y="4714920"/>
            <a:ext cx="571680" cy="57132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3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0" y="856800"/>
            <a:ext cx="8686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а небольшая  изящная птичка «Хвостом лёд разбивает», - шутливо говорят про неёв народ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а птичка прилетает рано, перед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скрытием рек ото льда. Её даже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овут птицей – ледоломко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3" descr=""/>
          <p:cNvPicPr/>
          <p:nvPr/>
        </p:nvPicPr>
        <p:blipFill>
          <a:blip r:embed="rId2"/>
          <a:stretch/>
        </p:blipFill>
        <p:spPr>
          <a:xfrm>
            <a:off x="5715000" y="2214720"/>
            <a:ext cx="3143160" cy="2571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1" name="Прямоугольник 4"/>
          <p:cNvSpPr/>
          <p:nvPr/>
        </p:nvSpPr>
        <p:spPr>
          <a:xfrm>
            <a:off x="428760" y="4857840"/>
            <a:ext cx="71424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1214280" y="4857840"/>
            <a:ext cx="64296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1928880" y="4857840"/>
            <a:ext cx="64296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2643120" y="4857840"/>
            <a:ext cx="71460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3429000" y="4857840"/>
            <a:ext cx="71424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4214880" y="4857840"/>
            <a:ext cx="71424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10"/>
          <p:cNvSpPr/>
          <p:nvPr/>
        </p:nvSpPr>
        <p:spPr>
          <a:xfrm>
            <a:off x="5786280" y="4857840"/>
            <a:ext cx="71460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11"/>
          <p:cNvSpPr/>
          <p:nvPr/>
        </p:nvSpPr>
        <p:spPr>
          <a:xfrm>
            <a:off x="7358040" y="4857840"/>
            <a:ext cx="64296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12"/>
          <p:cNvSpPr/>
          <p:nvPr/>
        </p:nvSpPr>
        <p:spPr>
          <a:xfrm>
            <a:off x="6572160" y="4857840"/>
            <a:ext cx="71460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5000760" y="4857840"/>
            <a:ext cx="714240" cy="64296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3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3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3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3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02:06:08Z</dcterms:created>
  <dc:creator>XTreme</dc:creator>
  <dc:description/>
  <dc:language>en-US</dc:language>
  <cp:lastModifiedBy>XTreme</cp:lastModifiedBy>
  <dcterms:modified xsi:type="dcterms:W3CDTF">2011-07-05T16:48:43Z</dcterms:modified>
  <cp:revision>58</cp:revision>
  <dc:subject/>
  <dc:title>Игра «поле чудес»</dc:title>
</cp:coreProperties>
</file>