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33E-762E-4228-BEE1-32304295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5D4-940D-400A-A266-10D7BE2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CBC-2D39-46B2-BF3E-FF7AAFD2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4AF-AFDD-4151-A56F-DA398D7D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2B8-F03E-499E-B4C2-1022908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66C-6B1F-47AF-831B-03C592C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339-FB53-495A-9E24-69CB368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12D-8BA8-46AD-90AC-EA2A5F8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D70-7BED-4438-85D7-493CC81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F0A-8495-4649-9A1A-1218CF7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3B2-80C9-4F33-8122-DF59313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F8B-116E-4653-9582-33074CB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679-378A-4226-BA16-7B25ACFFE3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dles.ucoz.ru/_ph/1/2/178083468.jpg" TargetMode="External"/><Relationship Id="rId2" Type="http://schemas.openxmlformats.org/officeDocument/2006/relationships/hyperlink" Target="http://www.chitalnya.ru/upload/346/4061545524746.jpg" TargetMode="External"/><Relationship Id="rId3" Type="http://schemas.openxmlformats.org/officeDocument/2006/relationships/hyperlink" Target="http://www.volganet.ru/irj/go/km/docs/documents/Public%20Documents/Images/&#1048;&#1079;&#1086;&#1073;&#1088;&#1072;&#1078;&#1077;&#1085;&#1080;&#1103;/&#1040;&#1043;%20&#1040;&#1042;&#1054;/&#1053;&#1054;&#1042;&#1054;&#1057;&#1058;&#1048;/&#1084;&#1072;&#1081;/26.05/_MG_4670.jpg" TargetMode="External"/><Relationship Id="rId4" Type="http://schemas.openxmlformats.org/officeDocument/2006/relationships/hyperlink" Target="http://www.volganet.ru/irj/go/km/docs/documents/Public%20Documents/Images/&#1048;&#1079;&#1086;&#1073;&#1088;&#1072;&#1078;&#1077;&#1085;&#1080;&#1103;/&#1040;&#1043;%20&#1040;&#1042;&#1054;/&#1053;&#1054;&#1042;&#1054;&#1057;&#1058;&#1048;/&#1084;&#1072;&#1081;/26.05/_MG_4670.jpg" TargetMode="External"/><Relationship Id="rId5" Type="http://schemas.openxmlformats.org/officeDocument/2006/relationships/hyperlink" Target="http://www.volganet.ru/irj/go/km/docs/documents/Public%20Documents/Images/&#1048;&#1079;&#1086;&#1073;&#1088;&#1072;&#1078;&#1077;&#1085;&#1080;&#1103;/&#1040;&#1043;%20&#1040;&#1042;&#1054;/&#1053;&#1054;&#1042;&#1054;&#1057;&#1058;&#1048;/&#1084;&#1072;&#1081;/26.05/_MG_4670.jpg" TargetMode="External"/><Relationship Id="rId6" Type="http://schemas.openxmlformats.org/officeDocument/2006/relationships/hyperlink" Target="http://vdles.ucoz.ru/_ph/1/2/80311988.jpg" TargetMode="External"/><Relationship Id="rId7" Type="http://schemas.openxmlformats.org/officeDocument/2006/relationships/hyperlink" Target="http://www.shahty.ru/netcat_files/710/669/h_1025e68fd32f3574a77f24675d87d35a" TargetMode="External"/><Relationship Id="rId8" Type="http://schemas.openxmlformats.org/officeDocument/2006/relationships/hyperlink" Target="http://club.foto.ru/gallery/images/photo/2007/11/26/994254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7859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mbria"/>
              </a:rPr>
              <a:t>МОЯ МАЛАЯ РОДИНА</a:t>
            </a:r>
            <a:endParaRPr b="0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2785680"/>
            <a:ext cx="8572320" cy="40719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mbria"/>
              </a:rPr>
              <a:t>КЛАССНЫЙ ЧАС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mbria"/>
              </a:rPr>
              <a:t>4 КЛАСС</a:t>
            </a:r>
            <a:endParaRPr b="0" lang="en-US" sz="3200" spc="-1" strike="noStrike">
              <a:solidFill>
                <a:srgbClr val="003300"/>
              </a:solidFill>
              <a:latin typeface="Cambr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3300"/>
              </a:solidFill>
              <a:latin typeface="Cambr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mbria"/>
              </a:rPr>
              <a:t>Спирина Наталья Александровна</a:t>
            </a:r>
            <a:endParaRPr b="0" lang="en-US" sz="2400" spc="-1" strike="noStrike">
              <a:solidFill>
                <a:srgbClr val="003300"/>
              </a:solidFill>
              <a:latin typeface="Cambr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3300"/>
              </a:solidFill>
              <a:latin typeface="Cambr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mbria"/>
              </a:rPr>
              <a:t>МОУ СОШ №3</a:t>
            </a:r>
            <a:endParaRPr b="0" lang="en-US" sz="2400" spc="-1" strike="noStrike">
              <a:solidFill>
                <a:srgbClr val="003300"/>
              </a:solidFill>
              <a:latin typeface="Cambr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mbria"/>
              </a:rPr>
              <a:t>г. Донецка Ростовской области</a:t>
            </a:r>
            <a:endParaRPr b="0" lang="en-US" sz="2400" spc="-1" strike="noStrike">
              <a:solidFill>
                <a:srgbClr val="0033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СИМВОЛЫ РОССИИ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8072640" cy="49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СИМВОЛЫ РОСТОВСКОЙ ОБЛАСТИ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72200" cy="47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СИМВОЛЫ РОСТОВСКОЙ ОБЛАСТИ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7858080" cy="47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РЕСУРСЫ ИНТЕРНЕТА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1"/>
              </a:rPr>
              <a:t>http://vdles.ucoz.ru/_ph/1/2/178083468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2"/>
              </a:rPr>
              <a:t>http://www.chitalnya.ru/upload/346/4061545524746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3"/>
              </a:rPr>
              <a:t>http://www.volganet.ru/irj/go/km/docs/documents/Public%20Documents/Images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Rockwell"/>
                <a:hlinkClick r:id="rId4"/>
              </a:rPr>
              <a:t>Изображения/АГ%20АВО/НОВОСТИ/май/26.05/_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5"/>
              </a:rPr>
              <a:t>MG_4670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6"/>
              </a:rPr>
              <a:t>http://vdles.ucoz.ru/_ph/1/2/80311988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7"/>
              </a:rPr>
              <a:t>http://www.shahty.ru/netcat_files/710/669/h_1025e68fd32f3574a77f24675d87d35a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Rockwell"/>
                <a:hlinkClick r:id="rId8"/>
              </a:rPr>
              <a:t>http://club.foto.ru/gallery/images/photo/2007/11/26/994254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Rockwell"/>
              </a:rPr>
              <a:t>http://img1.liveinternet.ru/images/foto/b/3/806/2829806/f_17466579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Rockwell"/>
              </a:rPr>
              <a:t>http://www.tsogu.ru/media/photos/2010/08_20/1275215348_rrrrr5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Rockwell"/>
              </a:rPr>
              <a:t>http://www.yaplakal.com/uploads/post-3-12731365828006.jp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Rockwell"/>
              </a:rPr>
              <a:t>http://upload.wikimedia.org/wikipedia/commons/thumb/d/d9/Flag_of_Rostov_Oblast.svg/800px-Flhttp://www.oblivsk.ru/imgmap/adm_karta.jpgag_of_Rostov_Oblast.svg.png</a:t>
            </a: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429400" cy="46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14392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57120" y="1600200"/>
            <a:ext cx="8358120" cy="50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42976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4200" y="1600200"/>
            <a:ext cx="8643960" cy="48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НАШ КРАЙ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28760" y="1600200"/>
            <a:ext cx="8429400" cy="50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707256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mbria"/>
              </a:rPr>
              <a:t>КАРТА РОСТОВСКОЙ ОБЛАСТИ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mbria"/>
              </a:rPr>
              <a:t>СИМВОЛЫ РОССИИ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814356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7:15:35Z</dcterms:created>
  <dc:creator>XTreme</dc:creator>
  <dc:description/>
  <dc:language>en-US</dc:language>
  <cp:lastModifiedBy>XTreme</cp:lastModifiedBy>
  <dcterms:modified xsi:type="dcterms:W3CDTF">2006-12-31T22:13:55Z</dcterms:modified>
  <cp:revision>8</cp:revision>
  <dc:subject/>
  <dc:title>Слайд 1</dc:title>
</cp:coreProperties>
</file>